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5A0-234D-47B3-ADC6-6005F06B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2E6-BB78-4E9A-9D9D-A72A22DB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263-2DD0-43E9-8D11-F1147605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CDF-6022-46F0-8DEB-AE1A3441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89E2-515A-4A56-9A33-927629DF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EE2E-396F-41B1-ACDB-C14FECF2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7223-B7A7-4110-B811-24E30A2F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2420-A380-4C8F-8453-78BC2ED9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4781-8F25-4CCF-8764-055A7DD5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8434-1111-45A0-9172-D0AAF814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0037-B4E7-4677-A787-6B2C32C0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3AE-3F21-4801-8CB3-96F094A8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BC88-3D0B-44CF-823F-0DDDB23D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7612-925D-4EC0-B256-B6C847C7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5298-D802-4BED-8180-E5A503C0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8EC6-A80A-4169-A0AC-DE23916C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8EEB-2AAC-4BD1-83FC-2F8BD6A7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6D102-FB6D-4057-A646-C0FF3178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78F03-BF8B-4D53-86AC-D9D8036C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88442-2EC4-4583-B31D-69C7AD52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63240-74AC-4E1A-A4E8-DB1B0F86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B7FA5-DBD4-44A4-8A7D-8393721D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71F-F0D5-4C7E-9336-94D31D61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E7464-E9D7-4579-A65C-87BA2471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4D2C3-715C-4F58-877B-3071E991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541A3-4892-4113-B323-F60CF9D0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4DE48-D95B-4D19-8900-541CBCD5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367F5-35A9-4371-9FC7-F051E5CA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3862E-75F2-4107-BC54-463E6D53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D493C-3BA6-4405-9721-58C5A51C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26A7A-472F-430F-9B9E-51878A55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FC528-934B-4291-85EB-C3EEE7E0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63521-6668-416E-AD1E-F3C088F6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214-3759-4CA6-B22A-7805D58D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FDBE0-A451-4255-AD74-4EEDA764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23E17-619B-4D16-AA67-4F7A1E9B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88BB4-6C55-4119-B25B-E954EE82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D887A-33CE-41E8-B3DB-4E0F164B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CB275-9F11-46B5-805C-4BE42C95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9A394-C633-4F26-A208-3A9A9182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E220F-7992-489C-A5FB-31221D8E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AEF6F-5B58-489F-A36D-4E64F744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33217-BC0B-47AB-BE89-887B6397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4B5EA-1B1D-44A7-A113-B99A42BB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40C-BF1A-484F-9F8A-0BEC3B8D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80574-5C60-48C2-AB51-A8B2BC6E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DAA6B-492E-4B7D-BCC5-6A6022B1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A8AEF-E15D-47FA-9E24-F08A430A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AF2AA-F053-4E90-8CD2-41AEFB41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D8A83-4870-4038-B46D-4490EFCC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9731A-F52D-469E-98F6-9B7F47A4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CFB3D-8322-4BBF-AEBF-C4377773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91F40-5453-4966-80BC-75B79F25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2B25C-5DB5-446E-92C2-A964B5FA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42528-550D-4B94-ADC4-681C995F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4D3-17C8-419C-AB7A-DB0AB230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6B403-E5D4-4B4D-92DF-DA805A9C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4C03B-BE1A-46F6-9593-9301A767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7C247-E0FF-4F93-8C85-22A552CA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B934E-44CF-47D5-9394-B41434FE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21153-8978-4B77-A284-FD57A57C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5EAE4-1C88-4784-8057-01E83842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5A65A-0CE8-43C8-AD13-B3C17EDA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F3D92-F4F1-4952-8A39-53C722C0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E7342-C492-4ED1-8649-D5F606CB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767D2-6D42-4A81-BDC9-BFB46AFC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089D-3469-4A60-A514-6D8AAE88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A9029-F10F-457F-8E75-D0423E37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65A4E-2C08-42F6-9C63-FA38E01F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B911C-F24B-411B-A989-BD479359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1A928-F3DD-4BAA-A392-30F7D585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33EFA-64C5-4CFB-8537-CE986DD0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5526A-2438-437D-9886-13A9AE3A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57A32-8D5C-4776-AC58-DCB36215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973EC-481C-4855-A713-D001653D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10085-B377-4481-B55B-97AB0244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C109E-6D30-4EA3-A0BC-57997C74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410-BE8A-4A5A-B905-2729601B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6D921-ECCA-461A-B4DB-ACE3DF27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46916-3CAF-41B6-B61A-B422C631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76974-8268-4C61-8594-78518628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7EFE7-372B-46B7-853D-255D7019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1D1B7-E1C3-4C6D-BCB7-C6382BE8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852C-65AA-4D43-B0BC-362A06E0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78D99-CA21-4591-803F-B4EA91F2ABA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7A499-B55C-4E3F-B6DF-5741D3AD0B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EC684-63DF-46E6-9396-D6D82EB084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8049A-608D-4052-B104-85EAE4F7102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4BC8A-38C9-446D-A006-5A3A61B8D20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72AC1-5EA0-4120-AE38-B038A790B9C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FFBF5-05D3-45B0-986E-856CC34E1C0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8077320" cy="1676520"/>
          </a:xfrm>
          <a:prstGeom prst="rect">
            <a:avLst/>
          </a:prstGeom>
          <a:ln w="0">
            <a:noFill/>
          </a:ln>
        </p:spPr>
      </p:pic>
      <p:sp>
        <p:nvSpPr>
          <p:cNvPr id="304" name="TextBox 3"/>
          <p:cNvSpPr/>
          <p:nvPr/>
        </p:nvSpPr>
        <p:spPr>
          <a:xfrm>
            <a:off x="398520" y="5504040"/>
            <a:ext cx="836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Learning Goal: Students will be able to explain at least 2 trends of the 1920’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398520" y="1170000"/>
            <a:ext cx="854064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ellwor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sis Statement Promp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rec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ad the following prompt and respond with a 1 sentence thesis statemen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Value: 9 Points (Quiz Grade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M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League of Nations was going to fail regardless of whether or not the U.S. joined it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e or Disagree and give at least 2 specific reasons wh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174240" y="1593360"/>
            <a:ext cx="8969400" cy="4233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ti-Saloon League- protested for legal prohib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aloon = bar in the 1920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TCU (Women’s Christian Temperance Union)- female group dedicated to banning alcoho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akeasies = illegal bars during Prohib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ootlegging = illegally making and selling alcoho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398520" y="5627520"/>
            <a:ext cx="836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Learning Goal: Students will be able to explain at least 2 trends of the 1920’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bster, nicknamed Scarf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de a ton of $$ smuggling and selling alcoho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de over $60 million by 1927 selling alcohol, and leading a gambling and prostitution r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TextBox 3"/>
          <p:cNvSpPr/>
          <p:nvPr/>
        </p:nvSpPr>
        <p:spPr>
          <a:xfrm>
            <a:off x="398520" y="5504040"/>
            <a:ext cx="836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Learning Goal: Students will be able to explain at least 2 trends of the 1920’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ble = something morally goo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s was the nickname for Prohib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hibition failed because it was too difficult to enforce (bribes, not enough polic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TextBox 3"/>
          <p:cNvSpPr/>
          <p:nvPr/>
        </p:nvSpPr>
        <p:spPr>
          <a:xfrm>
            <a:off x="398520" y="5504040"/>
            <a:ext cx="836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Learning Goal: Students will be able to explain at least 2 trends of the 1920’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nish for home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reate a Layered Book Foldable for Amendments 18, 19, and 2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 VERY specific with the details for each amend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y and include quotes from each amend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lete a Supreme Court Case Study Handou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You have 10 minutes to comple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e from the following Cas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iranda v Arizon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rown v Boar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lessy v Fergus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inker v Des Moin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6934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Definitio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Hating all non-native America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mergency Quota Act (1921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The number of immigrants allowed to enter the U.S. was limited to 3% of the # (number) of immigrants already living in the US as of 191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acco &amp; Vanzetti Trial: Innocent, but victims of the Red Sca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322200" y="5842080"/>
            <a:ext cx="836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Learning Goal: Students will be able to explain at least 2 trends of the 1920’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282600" y="1643040"/>
            <a:ext cx="8539200" cy="4168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KKK = Ku Klux Kla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Focused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on foreigners/immigrants, not black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Members had to be native-born white Protestant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ated the American “Melting Pot” (idea that the U.S. was a melting pot of different cultures and ethnicities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lso protested against African-Americans, Catholics, and Jewish peopl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Klan died out when their leader assaulted and killed a young gir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457200" y="5811840"/>
            <a:ext cx="836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Learning Goal: Students will be able to explain at least 2 trends of the 1920’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is 1 trend of the 1920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4144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flict between creationism and evolu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undamentalists believed in the Bible and the creation story as told in Genesis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arwin’s theory of evolution argued people came from earlier life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398520" y="5842080"/>
            <a:ext cx="836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Learning Goal: Students will be able to explain at least 2 trends of the 1920’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COPES TRIAL- nicknamed the Monkey Tria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ohn Scopes taught evolution, on purpose, because it was illegal. He was arrested, tried, and found guilty but no real punish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398520" y="5526000"/>
            <a:ext cx="836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Learning Goal: Students will be able to explain at least 2 trends of the 1920’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0" y="1407600"/>
            <a:ext cx="9144000" cy="5450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Optio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1: Thesis Stat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mp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Nativism was a major problem during the 1920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 Agree or Disagree, and provide AT LEAST 2 historical examples to prove your thinking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Optio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2: KWL Chart on World War 1 and the 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74680" y="4707000"/>
          <a:ext cx="8412120" cy="2054160"/>
        </p:xfrm>
        <a:graphic>
          <a:graphicData uri="http://schemas.openxmlformats.org/drawingml/2006/table">
            <a:tbl>
              <a:tblPr/>
              <a:tblGrid>
                <a:gridCol w="2803320"/>
                <a:gridCol w="2805120"/>
                <a:gridCol w="280368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What I Already 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What I WANT to 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What I have LEAR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182520" y="1407960"/>
            <a:ext cx="873144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hibit = to not allo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mendment (1920): Alcohol made illega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olstead Act: Law made to enforce the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mendment. Made it illegal to make and sell any beverage with alcohol content of .5% or hig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y prohibition? Many believed alcohol was at the root of many social evi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mendment: Alcohol made legal agai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398520" y="5526000"/>
            <a:ext cx="836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Learning Goal: Students will be able to explain at least 2 trends of the 1920’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03:05:32Z</dcterms:created>
  <dc:creator>Mark Scacewater</dc:creator>
  <dc:description/>
  <dc:language>en-US</dc:language>
  <cp:lastModifiedBy>Mark Scacewater</cp:lastModifiedBy>
  <dcterms:modified xsi:type="dcterms:W3CDTF">2013-12-17T02:45:13Z</dcterms:modified>
  <cp:revision>15</cp:revision>
  <dc:subject/>
  <dc:title>The 1920s</dc:title>
</cp:coreProperties>
</file>